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CC1-499F-4FB1-82FD-90782AE3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C28-9B4F-439E-B789-9B40EF59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9E1-3920-4285-A48D-31BF05E1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291-102B-4927-9684-DC803598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F643A-E0E1-434E-9E1F-04C2EC6A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81158-0DED-4FB6-A0D1-A5C5E967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297D4-B2E6-4424-B246-5DD1D3E4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3B2CF-D9D4-46DF-A41F-6F0C1260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D52F0-2D6E-4756-B8E6-7311927D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0D4B6-0FC7-4298-94DF-F8FCEC48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21441-EBC9-4E15-997E-CE1C7D79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01A-D8AF-4379-8D07-7D60B302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82746-C55B-46CB-B18E-0CC02C3B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ECB84-6A29-4C4B-8E61-F0E07FFF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AF905-E20B-47C5-B18C-3103D77F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D8FEE-81E5-43CA-93EF-5FE297B7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9E1AD-40EF-4662-9A36-631CB3A0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0C9-51E9-4DA6-B2FC-1400AE3A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1EB-D041-46E2-B969-7E10E390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B24-CE02-4574-BC0C-4E221392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BB96-3C94-41F6-9316-0239DAD4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6F8-5B5E-43A3-9573-28EE48D0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9CB-9CE8-4FCF-AF1A-6BD5F8FB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3A6-E667-4131-B44B-96CF2683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3206-0899-4828-87F3-D7333D7D3D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568F-BADB-4455-B591-18AA804862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Всероссийский конкурс 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280" y="2637000"/>
            <a:ext cx="79311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БОУ «СОШ №16  имени  Д.М.Карбышев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усак Галина Александ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353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лгорит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4360" y="1916280"/>
          <a:ext cx="7775280" cy="1657080"/>
        </p:xfrm>
        <a:graphic>
          <a:graphicData uri="http://schemas.openxmlformats.org/drawingml/2006/table">
            <a:tbl>
              <a:tblPr/>
              <a:tblGrid>
                <a:gridCol w="7775280"/>
              </a:tblGrid>
              <a:tr h="16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Заменю крупные единицы мелки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Выполню действ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Заменю мелкие единицы крупны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6092640"/>
            <a:ext cx="842652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хакасское женское платье (инче когенег) надо 7м ткани. Сколько метров ткани пойдёт на одну мужскую рубашку (ир когенег), если на неё требуется на 2 метра меньше, чем на плать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9" descr="Image1"/>
          <p:cNvPicPr/>
          <p:nvPr/>
        </p:nvPicPr>
        <p:blipFill>
          <a:blip r:embed="rId1"/>
          <a:stretch/>
        </p:blipFill>
        <p:spPr>
          <a:xfrm>
            <a:off x="2916360" y="333360"/>
            <a:ext cx="3240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58050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фондах музея хранится 34 платья. Из них 20 платьев для повседневной носки, а остальные концертные. Сколько концертных платьев хранится в музее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Image12"/>
          <p:cNvPicPr/>
          <p:nvPr/>
        </p:nvPicPr>
        <p:blipFill>
          <a:blip r:embed="rId1"/>
          <a:stretch/>
        </p:blipFill>
        <p:spPr>
          <a:xfrm>
            <a:off x="611280" y="260280"/>
            <a:ext cx="784836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429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Хакасы кустарным способом изготавливали различные сорта кожи и меха. Праздничная одежда шилась из шёлковых тканей (торгы), бархата (килин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Эти товары привозились в Хакасию купцами из Китая, Средней Азии и Росс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ак как мы живём на хакасской земле, с хакасским народом, знать национальную одежду коренного населения, интересно и необходим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У каждого народа есть свои национальные особенности, обычаи, язык, культура и быт. В настоящее время с образованием Республики Хакасия национальные традиции, одежда возрождаются. На многих праздниках, таких как «Тун пайрам», «Чыл пазы», на свадьбах, в театре можно видеть женщин в национальных платья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mage14"/>
          <p:cNvPicPr/>
          <p:nvPr/>
        </p:nvPicPr>
        <p:blipFill>
          <a:blip r:embed="rId1"/>
          <a:stretch/>
        </p:blipFill>
        <p:spPr>
          <a:xfrm>
            <a:off x="684360" y="189000"/>
            <a:ext cx="7777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580500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ина музыкального инструмента чатхан 150см, а ширина 25см. Найди сумму длин всех его сторон и площадь. (рядом с чатханом тимерхомы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DSC04760"/>
          <p:cNvPicPr/>
          <p:nvPr/>
        </p:nvPicPr>
        <p:blipFill>
          <a:blip r:embed="rId1"/>
          <a:stretch/>
        </p:blipFill>
        <p:spPr>
          <a:xfrm>
            <a:off x="1042920" y="260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9640" y="5949720"/>
            <a:ext cx="806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должительность спектакля Хакасского музыкально-драматического театра Читиген «В чаще» - 1ч 20мин., а продолжительность детской сказки «Охотник Сарынчах» - 50мин. На сколько сказка короче спектакля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Image53"/>
          <p:cNvPicPr/>
          <p:nvPr/>
        </p:nvPicPr>
        <p:blipFill>
          <a:blip r:embed="rId1"/>
          <a:stretch/>
        </p:blipFill>
        <p:spPr>
          <a:xfrm>
            <a:off x="755640" y="189000"/>
            <a:ext cx="756144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61653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тупление театра Читиген в школе №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DSC04751"/>
          <p:cNvPicPr/>
          <p:nvPr/>
        </p:nvPicPr>
        <p:blipFill>
          <a:blip r:embed="rId1"/>
          <a:stretch/>
        </p:blipFill>
        <p:spPr>
          <a:xfrm>
            <a:off x="826920" y="189000"/>
            <a:ext cx="7560000" cy="5668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4000" y="6092640"/>
            <a:ext cx="777708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щаясь к народным истокам культуры мы будем стремиться возродить гордость народа, будем помогать искать ему своё место в сегодняшнем д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DSC04745"/>
          <p:cNvPicPr/>
          <p:nvPr/>
        </p:nvPicPr>
        <p:blipFill>
          <a:blip r:embed="rId1"/>
          <a:stretch/>
        </p:blipFill>
        <p:spPr>
          <a:xfrm>
            <a:off x="900000" y="26028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566100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а, надежда, доброта,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900000" y="404640"/>
            <a:ext cx="7417080" cy="45370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  А    Т   Е     Д     К   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     Е         О      О       А     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       Ч    Р    Н   Д    Е     Д      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      Б         А        Р       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: «Действия 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нованными числам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спользование НР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 Изучение именованных чисел, обобщив знания, полученные на более ранних этапах обучения, используя РНК; анализ различных способов выполнения действий с именованными числами и использование этих способов в практической деятельности; выбор рациональных способов выполнения действий и обоснование такого выбора. Различные способы запис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Знакомство учеников со старинными измерительными прибор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Воспитание положительного отношения к учёбе. Осознание своих действий и их применение в реальной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Воспитание любви к своей малой Родине, потребности к изучению хакасской культур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888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2км 178м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/высота горы Верхний зуб на Западе Хакасии/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300мм    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 /годовое количество осадков в степной части Хакасии/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15мм     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/самый крупный муравей Хакасии - «Древоточец чёрный»/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3мм         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/самый маленький муравей – «фараонов»/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220см    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 /длина овчинного хакасского одеяла – «чорген»/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22м2       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/площадь шестиугольной хакасской юрты/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150см    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/длина музыкального инструмента – «чатхан»/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6кг       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 /масса тетерева/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эти птицы живут в лесах Хакасии</a:t>
            </a: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1кг       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/масса рябчика/</a:t>
            </a:r>
            <a:endParaRPr b="0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284720" y="4653000"/>
            <a:ext cx="142920" cy="720720"/>
          </a:xfrm>
          <a:custGeom>
            <a:avLst/>
            <a:gdLst>
              <a:gd name="textAreaLeft" fmla="*/ 0 w 142920"/>
              <a:gd name="textAreaRight" fmla="*/ 51480 w 1429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  6кг     150см     300мм     2км 178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кг     220см     15мм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(две единицы измер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2кв.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 записи использова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у единицу измер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  6кг                   150см                     22кв.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кг                    300мм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единицы измерения площад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ицы измерения массы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2км 178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20с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мм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единицы измерения длины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кг = 6000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кг = 1000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0см = 1500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20см = 2200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км 178м = 2178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2кв.м =  2200кв.д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136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км 178м + 1км 233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м 9дм Зсм - 1м 4дм 78с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р 26к •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кг 200г : 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3:32:24Z</dcterms:created>
  <dc:creator>WOLVERINE</dc:creator>
  <dc:description/>
  <dc:language>en-US</dc:language>
  <cp:lastModifiedBy>Галина</cp:lastModifiedBy>
  <dcterms:modified xsi:type="dcterms:W3CDTF">2021-12-26T12:02:44Z</dcterms:modified>
  <cp:revision>12</cp:revision>
  <dc:subject/>
  <dc:title>2км 178м             /высота горы Верхний зуб на Западе Хакасии/          300мм                 /годовое количество осадков в степной части Хакасии/         15мм                   /самый крупный муравей Хакасии - «Древоточец чёрный»/         3мм                     /самый маленький муравей – «фараонов»/         220см                  /длина овчинного хакасского одеяла – «чорген»/         22м2                    /площадь шестиугольной хакасской юрты/         150см                  /длина музыкального инструмента – «чатхан»/         6кг                      /масса тетерева/                                                                                              эти птицы живут в лесах Хакасии                          1кг                       /масса рябчика/</dc:title>
</cp:coreProperties>
</file>